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663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774600" y="-360"/>
            <a:ext cx="28861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856800" y="742680"/>
            <a:ext cx="4954680" cy="371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9406080"/>
            <a:ext cx="288756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774600" y="9406080"/>
            <a:ext cx="28861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64AE378F-0D20-45D3-9A73-B48D80EB9EF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85716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Keine Befassung mit den bi-lateralen internationalen Akteu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37E50-B5C0-4673-A02D-B155E71FDD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820728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4141800"/>
            <a:ext cx="820728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C3BB2-9157-440F-BDD7-19F816A670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14180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414180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5A0B6-D4A8-4F6C-864C-B4C96B721B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61424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61424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414180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414180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414180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8F97B-6B49-4FD1-8A8A-29AA428FB4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614240"/>
            <a:ext cx="82072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82072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684036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414180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614240"/>
            <a:ext cx="82072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80F46-3A72-4E25-8AAC-EBD4EAA3E7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414180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4141800"/>
            <a:ext cx="820728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820728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4141800"/>
            <a:ext cx="820728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414180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414180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61424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61424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414180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414180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414180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82072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DFFE5-43D2-479D-BB1A-D238C37C67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260C2-CC61-49FD-91D3-07E806C2B9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878EC-A113-4A17-8410-96EF62906F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684036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BDA37-9503-47EA-9861-301AE42847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414180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DBDDE-1A46-4540-9B0A-1F1CE2673B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414180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ED911-B4CC-47F3-A5C9-189282D369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4141800"/>
            <a:ext cx="820728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8A505-0EDE-4FC7-B40C-F166E694C1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614240"/>
            <a:ext cx="82072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1" marL="533520" indent="-17640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2" marL="89856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3" marL="125568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4" marL="161280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5" marL="161280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6" marL="161280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5763960" y="6619680"/>
            <a:ext cx="289692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4a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7FA0-716D-4B55-88EE-8FD3C2C43708}" type="slidenum">
              <a:rPr b="0" lang="de-DE" sz="800" spc="-1" strike="noStrike">
                <a:solidFill>
                  <a:srgbClr val="004a78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247680"/>
            <a:ext cx="9144000" cy="1008000"/>
          </a:xfrm>
          <a:prstGeom prst="rect">
            <a:avLst/>
          </a:prstGeom>
          <a:solidFill>
            <a:srgbClr val="7c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63" descr=""/>
          <p:cNvPicPr/>
          <p:nvPr/>
        </p:nvPicPr>
        <p:blipFill>
          <a:blip r:embed="rId2"/>
          <a:stretch/>
        </p:blipFill>
        <p:spPr>
          <a:xfrm>
            <a:off x="7591320" y="549360"/>
            <a:ext cx="1228680" cy="42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9b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8"/>
          <p:cNvSpPr/>
          <p:nvPr/>
        </p:nvSpPr>
        <p:spPr>
          <a:xfrm>
            <a:off x="0" y="2205000"/>
            <a:ext cx="8663040" cy="423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1151" descr=""/>
          <p:cNvPicPr/>
          <p:nvPr/>
        </p:nvPicPr>
        <p:blipFill>
          <a:blip r:embed="rId2"/>
          <a:stretch/>
        </p:blipFill>
        <p:spPr>
          <a:xfrm>
            <a:off x="3851280" y="5532480"/>
            <a:ext cx="4680000" cy="758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68360" y="1614240"/>
            <a:ext cx="82072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1" marL="533520" indent="-17640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2" marL="89856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3" marL="125568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4" marL="161280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5" marL="161280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6" marL="161280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0728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lood Relief Credit Programme (FRCP)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hort overview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ctober 201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6200" y="2205000"/>
            <a:ext cx="8207640" cy="273672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a78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a78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5764320" y="6620040"/>
            <a:ext cx="289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39AC-BDCB-46DA-B9CF-7A2E8EE513D4}" type="slidenum">
              <a:rPr b="0" lang="de-DE" sz="800" spc="-1" strike="noStrike">
                <a:solidFill>
                  <a:srgbClr val="004a7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FRCP- Phase 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82072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Contribution of EUR 2.5 million within the framework of the European Fund for Bosnia and Herzegovina (EFBH)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Channelled to the final beneficiaries hit by the flood through 2 Microfinance Institutions (Partner from Tuzla and Mikrofin from Banja Luka); each institution received EUR 1.25 million.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Effective as of end of June 2014, fully disbursed to final beneficiaries by end of Oct. 2014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Eligibility criteria for final beneficiaries: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Private, micro, small and medium sized enterprises, entrepreneurs and private households effected by the flooding 2014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Loans exclusively for refurbishment and damage recovery of business entities and households party and/or completely devastated by the floods.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Loans shall not exceed the amount of EUR 3000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Maturity 3 years with 6 months grace period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0% interest rate, no fees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1"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5764320" y="6620040"/>
            <a:ext cx="289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1132-8685-4F22-A3D1-D03814E6DE99}" type="slidenum">
              <a:rPr b="0" lang="de-DE" sz="800" spc="-1" strike="noStrike">
                <a:solidFill>
                  <a:srgbClr val="004a7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FRCP- Phase I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82072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Contribution from the Federal Ministry for Economic Cooperation and Development (BMZ) amounting to EUR 5 million 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To be channelled to the final beneficiaries hit by the flood through 2 Microfinance Institutions (Partner from Tuzla and Mikrofin from Banja Luka)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Each institution will receive EUR 2.5 million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Risk coverage of up to 50% for any sub- loan and up to 15% of the loan amount in total.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Effective: 2nd half of October 2014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Eligibility criteria for final beneficiaries: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Private, micro, small and medium sized enterprises, entrepreneurs and private households effected by the flooding 2014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Loans exclusively for refurbishment and damage recovery of business entities and households party and/or completely devastated by the floods.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Loans shall not exceed the amount of EUR 3000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Maturity 3 years with 6 months grace period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0% interest rate, no fees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06:58Z</dcterms:created>
  <dc:creator>Heike Hartung</dc:creator>
  <dc:description/>
  <dc:language>en-US</dc:language>
  <cp:lastModifiedBy>operater</cp:lastModifiedBy>
  <dcterms:modified xsi:type="dcterms:W3CDTF">2014-10-09T14:04:48Z</dcterms:modified>
  <cp:revision>118</cp:revision>
  <dc:subject/>
  <dc:title>Präsentation</dc:title>
</cp:coreProperties>
</file>